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858-8C1D-4729-9961-E398D1A5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4F5-4820-4A22-B670-277D149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916-56A1-4EF4-B5D5-F9144051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163-535E-4C7C-B74C-F9157B05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8DD-B50B-456A-B9AC-8ECA6CD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66C-9F6F-430B-86B3-B82F1BA1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566-E002-4B8C-89F6-D142307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388-4EB8-4691-A64B-568BAD9D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4F8-FCFB-4B4D-8286-0204685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756-4EB2-4FD1-AD1D-1DB6922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4A-B60F-4B23-AF60-5ED1C672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38D-9B0A-4A1D-8268-9187296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C4E9-3F59-4909-8CDF-194B8E0B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Clase 7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5 de abril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donde esta Micaela?  ¿De donde es el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thout looking in your texts or your notes, write as many names of as many Spanish countries as you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8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9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1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origen y coloca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Origin and Lo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u use the verb SER to tell where someone or something is from; its ori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rofesora ES de Puerto 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fé ES de Colom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sotros SOMOS de Boli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s bananas SON de Ecu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ú ERES de Nueva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SOY de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 You use ESTAR to express where someone or something is located. ESTAR expresses both temporary and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alumnos ESTAN en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drid ESTA en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o ESTOY en la clase de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los ESTAN en la cafet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jercicio 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. 49 (1-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9718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5:54:16Z</dcterms:created>
  <dc:creator>Helen Zumaeta</dc:creator>
  <dc:description/>
  <dc:language>en-US</dc:language>
  <cp:lastModifiedBy>Helen Zumaeta</cp:lastModifiedBy>
  <dcterms:modified xsi:type="dcterms:W3CDTF">2012-12-09T05:33:45Z</dcterms:modified>
  <cp:revision>3</cp:revision>
  <dc:subject/>
  <dc:title>Me llamo _________  Clase 7 im La fecha es el 15 de abril del 2011</dc:title>
</cp:coreProperties>
</file>